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B21-1BC8-4ECE-A589-4C6C253E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CB1-8529-46FB-A951-431C53B6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DC4-CCA4-4026-9BF0-1CCD1ED6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16E6-1E10-475A-A366-F2952355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ED0-5893-4AFA-BB19-8C28B356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BE37-18A5-4151-8E3F-3FF6A8DD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A7B-DB31-4675-81A2-70B2443C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F11B-CBBD-4827-901B-768034A7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FEC4-01C6-4F46-AF94-D0FAB747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E427-70C3-41D6-A877-54606A3B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1C0-1B66-4283-8A61-349F4025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8CF-F450-4D48-90DF-08547608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3C7B-FB7D-48EA-AEDC-D111A4DC00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мочная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венция ВОЗ по контролю над табаком: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международный договор в области общественного здоровь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304920"/>
            <a:ext cx="42674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ЧТО говорится в РКБ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2590920"/>
            <a:ext cx="6670440" cy="520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РКБТ может изменить ситуаци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066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всесторонний запрет рекламы, продвижения товара и спонсорства приведет к сокращению потребления табачных изделий"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581280"/>
            <a:ext cx="830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КБТ заявляет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тельства должны в течение 5 л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ретить рекламу и продвижение табачных изделий и спонсорство табачной индуст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аны, чьи конституции не позволяют запретить рекламу, должны ограничить все формы табачной рекламы, продвижения товара и спонсор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тья 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ие ключевые меры РКБ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е, информирование, подготовка и информационные кампании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Стороны будут способствовать усилению информирования общественности по вопросам контроля над табаком..."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тья 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ачная зависимость и прекращение курения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Стороны будут принимать эффективные меры, способствующие прекращению потребления табака и адекватного лечения табачной зависимости"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тья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улирование состава табачных изделий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Стороны будут разрабатывать методические подходы к тестированию и измерению состава табачных изделий и дыма, а также к регулированию их химического состава"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тья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0769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законная торговля табачными изделиями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Стороны признают, что исключение всех форм незаконной торговли табачными изделиями, включая контрабанду, незаконное производство и фальсификацию, ... являются важными компонентами контроля над табаком"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тья 1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ажа несовершеннолетним и несовершеннолетними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Стороны будут принимать и внедрять эффективные... меры, ... направленные на запрет продажи табачных изделий несовершеннолетним."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тья 1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ственность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Стороны рассматривают возможность принятия законодательных мер или развития существующего законодательства для решения, при необходимости, вопросов уголовной и гражданской ответственности, включая в соответствующих случаях компенсацию."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тья 1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" y="762120"/>
            <a:ext cx="8575560" cy="520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ЕЩЕ должны предпринять правительства?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362320"/>
            <a:ext cx="807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В целях обеспечения лучшей охраны здоровья людей Стороны поощряются к осуществлению мер, помимо требуемых настоящей Конвенцией"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тья 2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дальше?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ТЕЛЬСТВА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Успех РКБТ ... будет зависеть от энергии и политической воли, с которыми страны возьмутся за ее внедрение... Результатом станет глобальное улучшение здоровья для всех.“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-р Йонг-Вук ЛИ, Генеральный Директор ВОЗ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тельства должны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писать и ратифицировать РКБТ как можно быстре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дрить ее в цело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ОЕ ОБЩЕСТВО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Для достижения цели Конвенции и ее протоколов необходимо участие гражданского общества "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тья 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ое общество должно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о поощрять правительства к подписанию и ратификации РКБ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держивать внедрение и проводить его мониторинг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ля получения более подробной информации посетите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нифест врачей за Глобальный Контроль над табаком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torsmanifesto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КБТ сейчас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tcno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ьянс Рамочной Конвенции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t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bac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808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CRC supports medical associations across Europe in their efforts to inform their members, help their patients and promote effective publi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on tobac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213372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сурсный Центр по контролю над табаком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tobacco-control.org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Британской Медицинской Ассоциации (подготовивший данную презентацию) поддерживает усилия медицинских ассоциаций Европейских стран в направлении информирования их членов, помощи пациентам и содействия эффективным политическим мерам в отношении табак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54100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вод подготовлен Ресурсным Центром по контролю над табаком для стран бывшего Советского Союза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contact.tobinfo.or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мочная Конвенция ВОЗ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борьбе против табака (РКБТ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акое РКБТ?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КБТ - это первый в мире договор в области общественного здоровья. Он побуждает правительства к действиям, направленным на защиту от болезней и смертей, вызванных табак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она необходима?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требление табака ежегодно убивает почти 5 миллионов человек. К 2025 году это количество должно удвоиться. Ежедневно примерно 100 000 молодых людей становятся зависимыми от таба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она будет сохранять жизни?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РКБТ содержатся меры, действенность которых для сокращения вызванных табаком болезней и смертей доказана. Когда правительства подписывают РКБТ, они тем самым объявляют о своем намерении соответствовать этим минимальным стандарта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она вступит в силу?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настоящее время договор открыт для подписания. Он станет обязывающим, когда 40 стран ратифицируют ег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ЧЕМУ следует повышать налоги на табак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цена на табак повышается, потребление снижает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цены удерживает молодых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дей от начала потребления таба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цены подталкивает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ильщиков к прекращению курения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удерживает бывших курильщиков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возобновления кур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пошлинная торговля может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ствовать незаконной торговле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ачными изделиями и их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абанд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05720" y="2590920"/>
            <a:ext cx="2209680" cy="39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вышение табачных налогов на 10% может спасти 16 миллионов жизней во всем мире к 2020 году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04920"/>
            <a:ext cx="2773080" cy="764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ОГ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304920"/>
            <a:ext cx="42674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ЧТО говорится в РКБ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2895480"/>
            <a:ext cx="6629400" cy="520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РКБТ может изменить ситуаци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99072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налоговые и ценовые меры являются эффективными и важными средствами сокращения потребления табака ... населением в целом и в особенности молодыми людьми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657600"/>
            <a:ext cx="7696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КБТ заявляет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авительства долж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ять налоговую и ценовую политику, которая сокращает потребление таба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ретить или ограничить продажу табака, не облагаемого налогами и пошлин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тья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ЧЕМУ речь идет о табачном дыме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6324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ачный дым содержит более чем 4000 химических веществ, по меньшей мере 50 из которых вызывают ра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ичный дым вызывает заболевания, включая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ертель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существует безопасного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вня воздействия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ачного ды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04920"/>
            <a:ext cx="5334120" cy="764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АБАЧНЫЙ ДЫ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2362320"/>
            <a:ext cx="259092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ее 700 миллионов детей по всему миру подвержены воздействию табачного ды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304920"/>
            <a:ext cx="43434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ЧТО говорится в РКБ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2514600"/>
            <a:ext cx="6781680" cy="520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РКБТ может изменить ситуаци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9907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научные данные безоговорочно свидетельствуют о том, что воздействие табачного дыма вызывает смерти, болезни и инвалидность"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342900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КБТ заявляет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авительства должны внедрить эффективные, научно-обоснованные меры, направленные на защиту людей от табачного дыма на рабочих местах, в общественном транспорте и в закрытых общественных места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тья 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ЧЕМУ речь идет об упаковке и маркировке?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ди имеют право на получение ясной, точной информации об опасностях табачного дыма для здоровь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ие медицинские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упреждения с понятным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зыком и картинками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талкивают курильщиков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рекращению кур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инство курильщиков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осознают, что сигареты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зким содержанием смол"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же вредны, как и други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28600"/>
            <a:ext cx="8458200" cy="764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АКОВКА И МАРКИРОВ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19920" y="2514600"/>
            <a:ext cx="2743200" cy="32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урильщик, выкуривающий пачку в день, видит медицинские предупреждения на пачках </a:t>
            </a:r>
            <a:br>
              <a:rPr sz="2600"/>
            </a:br>
            <a:r>
              <a:rPr b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000 раз в год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304920"/>
            <a:ext cx="42674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ЧТО говорится в РКБ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2514600"/>
            <a:ext cx="6670800" cy="520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РКБТ может изменить ситуаци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06668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каждый человек должен быть информирован о последствиях для здоровья, способности вызывать зависимость и смертельной угрозе, создаваемой потреблением табака и воздействием табачного дыма" статья 4.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108240"/>
            <a:ext cx="8305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КБТ заявляет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авительства должны в течение трех л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сти большие, ясные, сменяющие друг друга медицинские предупреждения на всех табачных изделия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упреждения должны покрывать как минимум 50% основных поверхностей пачки, но не меньше 30%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упреждения могут включать картин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ретить дезинформирующие сведения на упаковке, которые заставляют предполагать, что определенные изделия являются менее вредными. Это касается таких терминов, как "с низким содержанием смол", "легкие", "ультра-легкие" и "мягкие"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тья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ЧЕМУ речь идет о рекламе?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ачная индустрия использует рекламу для вовлечения новых курильщи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лама и продвижение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вара повышает потребление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ачных издел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носторонние запреты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ламы табака и спонсорства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ачной индустрии сокращают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ребл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304920"/>
            <a:ext cx="3276720" cy="764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ЛА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2895480"/>
            <a:ext cx="2210040" cy="32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прет всей рекламы табака и спонсорства может сократить потребление на 6%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7:13:27Z</dcterms:created>
  <dc:creator>Konstantin Krasovsky</dc:creator>
  <dc:description/>
  <dc:language>en-US</dc:language>
  <cp:lastModifiedBy>Konstantin Krasovsky</cp:lastModifiedBy>
  <dcterms:modified xsi:type="dcterms:W3CDTF">2004-05-18T15:49:09Z</dcterms:modified>
  <cp:revision>22</cp:revision>
  <dc:subject/>
  <dc:title>Рамочная Конвенция ВОЗ по контролю над табаком: </dc:title>
</cp:coreProperties>
</file>